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3B69-8427-4489-B91F-BB6B36EE6DE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E2DA-9B9F-4E90-877F-8A2DC8D104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D9D2-73C1-45C0-9744-9E283C2D852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F797-8055-4B70-A991-3D4B42FDB92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DC10-5407-40AC-ABBE-F3B2A150B86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97E-0405-46E3-82DE-61B588C9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2BF-CFAC-4ADD-BB27-B2E0CC01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35B-C57C-4643-BFFA-96B2C617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EE8-FBD2-448E-A2CC-F4CAD856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AC8-A07A-4E7D-A06C-51BC7D36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217-781F-4A29-AF35-A066E046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F26-57F5-4076-A716-1F8B0D0F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109-5199-44D0-8A63-9EA5235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ED9-0A71-4D37-855E-B38E0419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7D7-52D7-4182-A8D3-1E7D76F6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56B-BF6B-49E5-A08D-2C593C62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639-8825-4BF2-886C-21AD9228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4A5A-DB9B-4E6E-9D09-F17A572520CA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0C54-8BFE-4292-A288-D261D21031F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75F7-E0B8-4C3C-987D-A59A362A7B4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68360" y="29242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Informativa sulle attività dell’Autorità di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8360" y="500040"/>
            <a:ext cx="82454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PO FSE SICILIA  2014/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OBIETTIVO CONVERG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8"/>
          <p:cNvGraphicFramePr/>
          <p:nvPr/>
        </p:nvGraphicFramePr>
        <p:xfrm>
          <a:off x="4608360" y="4903920"/>
          <a:ext cx="6480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4903920"/>
                    <a:ext cx="648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2"/>
          <p:cNvSpPr/>
          <p:nvPr/>
        </p:nvSpPr>
        <p:spPr>
          <a:xfrm>
            <a:off x="250920" y="628164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99"/>
                </a:solidFill>
                <a:latin typeface="Arial"/>
              </a:rPr>
              <a:t>Comitato di Sorveglianza 25 giugno 20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3"/>
          <a:stretch/>
        </p:blipFill>
        <p:spPr>
          <a:xfrm>
            <a:off x="250920" y="4992840"/>
            <a:ext cx="1257120" cy="790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995640" y="57103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Arial"/>
              </a:rPr>
              <a:t>Regione Sicil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168264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10" descr="Risultato immagine per logo repubblica italiana scaricabile"/>
          <p:cNvPicPr/>
          <p:nvPr/>
        </p:nvPicPr>
        <p:blipFill>
          <a:blip r:embed="rId5"/>
          <a:srcRect l="0" t="0" r="0" b="20257"/>
          <a:stretch/>
        </p:blipFill>
        <p:spPr>
          <a:xfrm>
            <a:off x="2556000" y="4924440"/>
            <a:ext cx="790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A27-71CD-414B-AECE-2BA57BCFD88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3280" y="1916280"/>
            <a:ext cx="792936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con criteri restrittivi e/o discriminatori tali da impedire a nuovi enti di formazione di presentare domande di finanzia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assenza di schede di presenza dettagliate che specifichino le ore e le attività svolte dal personale responsabile per garantire il rispetto della norma sull’incompatibilità del doppio incarico (es. tutor e insegnan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FSE sul finanziamento di borse di dottorato che prevedono l’obbligo per gli studenti di trascorrere un periodo all’estero mentre tale opportunità è facoltativa per gli studenti di dottorato non cofinanziati. La previsione di un tale obbligo può essere discriminato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il contributo dei progetti agli indicatori associati non è stato debitamente verifi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9280" y="27468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AF48-597F-440D-815B-B64CD14C015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2200" y="1413000"/>
            <a:ext cx="794844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Con riferimento ad un progetto volto ad aumentare la capacità amministrativa regionale ed  implementato principalmente tramite attività di consulenza esterna con competenza specifiche sono state individuate le seguenti caren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oggetto delle attività di consulenza rimane molto vago e di difficile       comprensione e i risultati non sono stati controllati debitamente dall’Ad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resenza di relazioni finali di alcuni consulenti che includono attività svolte per conto dell’ AdG più affini a mansioni dell’ assistenza tecnica piuttosto che ad attività volte al miglioramento dell’organizzazione amministrativa della regione. Ciò non è considerato in linea con l’obiettivo specifico dell’asse prioritario nel quale l’operazione è certific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AdA è in attesa del rapporto provvisorio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22" name="Freccia a destra 1"/>
          <p:cNvSpPr/>
          <p:nvPr/>
        </p:nvSpPr>
        <p:spPr>
          <a:xfrm>
            <a:off x="304920" y="314172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ccia a destra 8"/>
          <p:cNvSpPr/>
          <p:nvPr/>
        </p:nvSpPr>
        <p:spPr>
          <a:xfrm>
            <a:off x="304920" y="386064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79280" y="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B1DC-E3E5-4406-BBD4-0EDF94D593D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7 – 30 giugno 20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95280" y="981000"/>
            <a:ext cx="8105760" cy="25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Cert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CdR Dipartimento Famiglia e Politiche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95280" y="3552840"/>
            <a:ext cx="81057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AFFIDABILITA’ DEL SISTEMA</a:t>
            </a: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Funziona.  Sono necessari alcuni miglioramenti -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340000" y="61977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393840" y="604368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395280" y="5119560"/>
            <a:ext cx="85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a relazione di sistema è stata trasmessa via SFC ai servizi della Com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n data 8 giugno 2018 e caricata in pari data sul portale CIRCABC della 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1525-6C95-45A1-AB00-7A5E07E0018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68360" y="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1f497d"/>
                </a:solidFill>
                <a:latin typeface="Arial"/>
              </a:rPr>
              <a:t>AUDIT DELLE OPER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907920"/>
          <a:ext cx="8064720" cy="1756080"/>
        </p:xfrm>
        <a:graphic>
          <a:graphicData uri="http://schemas.openxmlformats.org/drawingml/2006/table">
            <a:tbl>
              <a:tblPr/>
              <a:tblGrid>
                <a:gridCol w="2303640"/>
                <a:gridCol w="2808360"/>
                <a:gridCol w="295272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e di pagamento a dicembre 2017 e giugno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Fasi di campio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ertific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5.829.369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.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.163.774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9640" y="4292640"/>
          <a:ext cx="8064720" cy="1800360"/>
        </p:xfrm>
        <a:graphic>
          <a:graphicData uri="http://schemas.openxmlformats.org/drawingml/2006/table">
            <a:tbl>
              <a:tblPr/>
              <a:tblGrid>
                <a:gridCol w="2311560"/>
                <a:gridCol w="2728800"/>
                <a:gridCol w="3024360"/>
              </a:tblGrid>
              <a:tr h="36036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i estra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9.151.926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344.136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2"/>
          <p:cNvSpPr/>
          <p:nvPr/>
        </p:nvSpPr>
        <p:spPr>
          <a:xfrm>
            <a:off x="2516040" y="63165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0040" y="2781360"/>
            <a:ext cx="8064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La combinazione delle risultanze dell’attività dell’audit di sistema e dell’audit sulle operazioni del periodo di riferimento precedente, ha confermato il </a:t>
            </a:r>
            <a:r>
              <a:rPr b="1" i="1" lang="it-IT" sz="1800" spc="-1" strike="noStrike" u="sng">
                <a:solidFill>
                  <a:srgbClr val="1f497d"/>
                </a:solidFill>
                <a:uFillTx/>
                <a:latin typeface="Arial"/>
              </a:rPr>
              <a:t>livello di confidenza del 70%</a:t>
            </a:r>
            <a:r>
              <a:rPr b="0" i="1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da tenere in considerazione per l’attività di camp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539640" y="6218280"/>
            <a:ext cx="1683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6642-C1DE-4206-A230-5DB6B8B12A0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5840" y="35712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AUDIT</a:t>
            </a: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74840" y="1498680"/>
            <a:ext cx="810576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8.514,40 con un tasso di errore sul campione pari allo 0,093%, mentre 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3.386,40 con un tasso di errore sul campione pari allo 0,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errore complessivo del campione di I e II fase è stato pertanto pari ad € 11.900,80 con un tasso di errore del campione pari a allo 0,11% che ha determinato un </a:t>
            </a:r>
            <a:r>
              <a:rPr b="1" lang="it-IT" sz="2000" spc="-1" strike="noStrike" u="sng">
                <a:solidFill>
                  <a:srgbClr val="1f497d"/>
                </a:solidFill>
                <a:uFillTx/>
                <a:latin typeface="Arial"/>
              </a:rPr>
              <a:t>tasso di errore total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(TET) sull’intera spesa certificata di € 32.993.143,49 pari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,30%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ricondotto dall’AdG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%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prima della presentazione del pacchetto di affidabil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340000" y="62373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E993-56F9-4D42-AAA2-29071A8CC87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755640" y="40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RAC E PARERE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84360" y="148428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attività di audit – periodo di riferimento 1°luglio 2017 - 30 giugno 2018 si è conclusa con la redazione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Relazione annuale di controllo e del Parere annuale di 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espresso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senza riserve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trasmessi via SFC alla Commissione Europea con nota 688/06 del 14 febbraio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Commissione Europea, con la nota Ares (2019) 1757497 del 18 marzo 2019 ha dichiarato che la Relazione annuale e il parere di Audit, la dichiarazione di gestione e la sintesi annuale di cui all’art. 138 lett b) e c) dell’RDC (pacchetto affidabilità) sono conformi alla legislazioni vig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211480" y="623736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224A-39F0-4F56-8582-F3DFAAEE7D0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8 – 30 giugno 20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5280" y="836640"/>
            <a:ext cx="81057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Gest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Certificaz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CdR Dipartimento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00040" y="3500280"/>
            <a:ext cx="810576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IVELLO DI AFFIDABILITA’ DEL SISTEMA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Funziona. Sono necessari alcuni miglioramen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relazione di sistema è stata trasmessa ai servizi della Commissione via SFC in data 14 febbraio 2019 e in pari data è stata caricata sul portale CIRCABC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627280" y="62373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FF2C-8C9E-43B5-89BD-CBB8A916BA9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8360" y="0"/>
            <a:ext cx="8066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Audit 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907920"/>
          <a:ext cx="8064720" cy="1152720"/>
        </p:xfrm>
        <a:graphic>
          <a:graphicData uri="http://schemas.openxmlformats.org/drawingml/2006/table">
            <a:tbl>
              <a:tblPr/>
              <a:tblGrid>
                <a:gridCol w="2675160"/>
                <a:gridCol w="3143160"/>
                <a:gridCol w="224640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a di pagamento a dicembre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mporto certific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5.010.725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.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2708280"/>
          <a:ext cx="8064720" cy="1373040"/>
        </p:xfrm>
        <a:graphic>
          <a:graphicData uri="http://schemas.openxmlformats.org/drawingml/2006/table">
            <a:tbl>
              <a:tblPr/>
              <a:tblGrid>
                <a:gridCol w="3240360"/>
                <a:gridCol w="4824360"/>
              </a:tblGrid>
              <a:tr h="36036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e estr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.128.122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TextBox 2"/>
          <p:cNvSpPr/>
          <p:nvPr/>
        </p:nvSpPr>
        <p:spPr>
          <a:xfrm>
            <a:off x="2195640" y="6237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00040" y="2428920"/>
            <a:ext cx="806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1"/>
          <p:cNvSpPr/>
          <p:nvPr/>
        </p:nvSpPr>
        <p:spPr>
          <a:xfrm>
            <a:off x="500040" y="4508640"/>
            <a:ext cx="813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ttività di verifica sulle operazioni campionate è stata avviata in data 4 marzo 2019 e si è conclusa il 24 giugno 2019 con la stesura dei rapporti provvisori. A seguito del contraddittorio questa AdA entro il 30 settembre 2019 invierà ai CdR interessati i rapporti definitivi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47D3-ACF9-41AB-A50A-20F5DF3B4E4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74560" y="836640"/>
            <a:ext cx="79218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 servizi della Commissione hanno chiesto alle AdA, già a fine 2018, di trattare nelle Relazioni annuali di controllo (RAC) gli approfondimenti sulle attività svolte, nell’ambito degli audit di sistema e delle operazioni, sull’affidabilità dei dati relativi agli indicatori di perform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Questa AdA ha ritenuto opportuno garantire l’affidabilità dei dati degli indicatori di performance attraverso una metodologia svolta in tre fasi che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di sistema (svolti sul periodo contabile 2018/201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sulle operazioni (periodo contabile 2017-2018 completati e 2018-2019 in cors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Verifica affidabilità dei dati di PF riportati nella bozza di RAA (in cor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Gli esiti dell’attività svolta sugli indicatori saranno compendiati in un rapporto che verrà trasmesso entro il mese di giugno alla CE via SF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40000" y="623556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VERIFICA AFFIDABILITA’ DATI  SUGLI INDICATORI DI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D789-D587-4003-B27F-A342DA2F20F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39640" y="1052640"/>
            <a:ext cx="799308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Missione di Audit  21-29 maggio 2019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della DG EMPL (ARES 2498485 del 9 aprile 2019) sul lavoro svolto dall'AdA per il periodo contabile 2017/20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'audit ha riguard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evisione della metodologia dell'AdA in relazione ai seguenti requisiti chia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5 - Audit di sistema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6 - Audit delle operazioni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RC 18 - Procedure adeguate per fornire un parere di audit             affidabile per la preparazione della 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iesecuzione degli audit di 8 operazioni scelte a campione tra quelle controllate dall'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124000" y="62355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84360" y="260280"/>
            <a:ext cx="77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99"/>
                </a:solidFill>
                <a:latin typeface="Arial"/>
              </a:rPr>
              <a:t>MISSIONI DI AUDIT DELLA 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36:00Z</dcterms:created>
  <dc:creator>PriceWaterhouseCoopers Spa</dc:creator>
  <dc:description/>
  <dc:language>en-US</dc:language>
  <cp:lastModifiedBy>Autore</cp:lastModifiedBy>
  <cp:lastPrinted>2019-06-24T14:33:14Z</cp:lastPrinted>
  <dcterms:modified xsi:type="dcterms:W3CDTF">2019-06-25T08:06:27Z</dcterms:modified>
  <cp:revision>296</cp:revision>
  <dc:subject/>
  <dc:title>Slide 1</dc:title>
</cp:coreProperties>
</file>